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139A-4F28-41DD-9198-7D0F858A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FFE7-529A-4AEE-9BD9-B1351C3E3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5C8-91D7-4C93-B3D8-C6B6D5AB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847-2A30-4DDF-B840-C31B54C5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F8A-7BE7-4E52-84EC-90543D54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690-A5A2-4D54-ADC8-E2B8FCC1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834D-E5E9-410F-8724-B3A8E8B7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532C-F45E-4CC6-95BE-35D9598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E7C5-CD50-47C0-91E3-14869F73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D6F9-5223-4599-9C5E-A5DF062C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4679-8A31-4A56-A449-6C0B0BFB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27F1-047F-4BDB-AB8E-D78877E8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0A02-3A6D-4CD5-8359-17CC7C7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9AF-6A4B-4280-AEF9-AB61ED0C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156C-F660-4AF0-9341-C9BFF9B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0DF3-AD35-46C6-9C08-603E79B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3E24-354E-4DEC-985E-4BE0EC8B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465F-5436-41BA-B18C-D09ADD05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DC44-37B6-4A50-8D58-3363ED26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DABF-063A-4453-AD82-932C623A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4FD2-B99E-4D83-8D90-A550B4B7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1CA52-86DB-4139-B48B-0B78CE05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F1FA-BBB9-47A1-9240-5BC343FC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93FD-A95C-4422-8A60-5CE4FA73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EE9-4B3F-427B-9EF9-C8C39BB1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A83D-7223-49E7-AD3A-404CFF27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B9C6-DB77-46BC-B117-386857A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2374-3CC8-4DE2-AF28-5047168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224F-413C-432A-BC33-67238601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9FE6-9615-475B-9CEE-55A18E22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0DD4-1DA7-40CF-AE78-C0E08EA4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1A54-9334-4765-B767-11DC0F29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00AA-C00E-412B-8D2E-57FE4D24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649F-C5CA-4248-AF3C-794312B3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3F6D-00B7-43ED-B274-754F6C89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7DB-73CB-4341-8FE7-3BE3AA87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30817-015C-4DE0-A7DE-CCE02B1D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8F49-32B2-4FDB-AF6D-83AFC5CB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E850-A9FD-4A49-8C74-AD659861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28EC7-930E-4E24-BCD0-B36F4CD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68D9-170A-4170-85C6-2ED4F966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D19B-CE2B-4E8C-BD41-EDA808B2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739E-5393-4598-930E-1DBD0A80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2DB8-68E1-4C11-A0BB-C3F35A18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965F-DC29-4D10-A451-E5DAA072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28ED-AFF4-4BE4-90E9-FED43104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2D6-C93D-42EA-95AD-BD10BB86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1311-5FDE-4872-B35E-357B2D33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9F19F-59ED-422E-B685-BE39C735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38BCD-3A18-4C3A-925A-506EA9CC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64D6-1238-4C7B-B631-8A556EDB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69C5-D769-41FE-A251-949D78A2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E2A96-34E9-45CD-A583-FAB2E13F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D26B2-4E06-4184-B899-AE0FE3E3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3134E-2BEB-477C-ADB8-47BADBBA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0E687-D204-4903-8CEF-F51B0514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3A7C-025B-4CE1-8A70-AE3C2599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790-E192-4565-9A5A-FB1DD3C2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6F93B-8CDE-4A8A-95AD-B5D4D22D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CF63-769D-4F0E-9841-160A2885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E2DCC-E7B9-4D4B-8503-94E33F6F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0CA4E-CEFD-4684-90DB-C903BB21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4BCF3-393B-4F8C-B7C8-BF9F3388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8EFC9-12D9-4615-972F-A3E48179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DAB0-742A-468A-B5A9-5CC0E334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B8A0A-71B1-4D44-A3AC-99412BA2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E98BF-61EA-450C-BFC0-081CB74E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D5733-6083-48C3-9AE7-E27DAAE8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EBE-0B79-4667-8642-4E0F25A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E0B69-0C32-4B1D-A169-AA4C6DD7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179DD-9A28-43AC-83F8-B0F9B657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9F008-5BF3-4286-A805-024801B1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266A9-5436-4FD0-97FE-82EF562B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4CA3-ACBA-4521-9C15-71E5A60B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C7F88-BD00-4721-840A-E0D46FC4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8C869-54B5-4377-85EA-7F8EC2A7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CEB0B-6F89-48D5-B50D-9952646E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0211-47B1-40F6-9E84-2521962E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BBB3A-0757-49E1-8A17-C1996F8F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DC1-4C5B-4D07-9D57-05F22E4A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989E8-C893-481B-9A85-73D46E1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403C8-E808-44EB-95BD-E3D90F6F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515A4-4B23-4DFD-BA09-16C9D23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2BC13-4F58-4E93-AE6F-2F44DC13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7AA78-4179-43CB-90ED-850484E5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103AF-99DF-495F-956A-3603316F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D07E8-2452-4072-A17B-B5FE7D4E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1573-1357-452D-9B4B-38CB86EF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EBB04-5F53-4ED9-9D71-3AD7A526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B3E87-0C3F-4572-B73D-B5C09BD6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303-0785-423E-8E76-1D1C4C2F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9ACBB-B110-4F05-ADE8-34848470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F7A53-3CB6-49AD-80FA-6E5DE5A7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FA664-614E-40BA-B068-E2CA94E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4705-4035-48D4-B0FF-A402B7CF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C9B15-12AE-4FE5-8046-BEA0CFF6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4C28B-2146-4AEC-ACAB-EEBCD860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65FE5-4620-4335-B0B5-953B3F02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4EA7-C984-4D15-A9FB-4048E432C4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B5FF-F8C5-4033-9AE4-CE564CF57BC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64D-2FA1-47F8-AE52-CE8754E56D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A575-D86D-4FD0-AE5C-CF9DEE3187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CAB5-A1AC-4F2F-AC40-97B6D623599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31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4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417D-5A1D-4AC6-ACAF-75BF79BD5A4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81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4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A326-E651-46F8-83A9-2CE7A5791FA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E6F5-BAC7-4402-9E70-49A62B0420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684360" y="1484280"/>
            <a:ext cx="755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13. </a:t>
            </a:r>
            <a:r>
              <a:rPr b="1" lang="sr-RS" sz="48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ГЕНЕТИЧКИ МЕХАНИЗМИ ИМУНОЛОШКИХ СПОСОБ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-181080" y="260280"/>
            <a:ext cx="38512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елијској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одбр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уч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твују Т лимфоц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кo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пoмo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рецeптoра на пoв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свo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х м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познају антигене везане за МНС протеине који су им приказани од стране антиген-презентујућих ћел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 разарaју aнтиг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4" descr="T limfociti"/>
          <p:cNvPicPr/>
          <p:nvPr/>
        </p:nvPicPr>
        <p:blipFill>
          <a:blip r:embed="rId1"/>
          <a:stretch/>
        </p:blipFill>
        <p:spPr>
          <a:xfrm>
            <a:off x="4500720" y="549360"/>
            <a:ext cx="4376520" cy="56880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5"/>
          <p:cNvSpPr/>
          <p:nvPr/>
        </p:nvSpPr>
        <p:spPr>
          <a:xfrm>
            <a:off x="5510880" y="119700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нтиге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детермина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644720" y="19890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4698000" y="289872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В лимфоц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7669800" y="342900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В лимфоц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6445800" y="54936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В лимфоц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7831800" y="24922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нтиге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детермина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7669800" y="551664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help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Т лимфоц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Улога </a:t>
            </a:r>
            <a:r>
              <a:rPr b="1" lang="sr-CS" sz="4200" spc="-1" strike="noStrike">
                <a:solidFill>
                  <a:srgbClr val="ff0000"/>
                </a:solidFill>
                <a:latin typeface="Times New Roman"/>
              </a:rPr>
              <a:t>гена</a:t>
            </a: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 у контроли механизма имунолошке реакције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инте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ткивних анти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пособност препознавања анти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егулациј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синтезе анти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трола 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нтеракциј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лимфоцита у току имуног одгов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7045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Times New Roman"/>
              </a:rPr>
              <a:t>УЛОГА ИМУНОГ СИСТЕМА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познаје и штити организам од микроорганизама и других страних материја које доспевају у те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мти стране материје и разликуј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од о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 којe пр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aдaју људском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a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м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пречава да дође до оплoђењa измeђу гaмeтa рaзличи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 б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лoшк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 врст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ј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опствене малигне ћелиј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бацује трансплантирана ткива и орга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LA</a:t>
            </a:r>
            <a:r>
              <a:rPr b="1" lang="sr-C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умани леукоцитарни антиген) систем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SH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/М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(главни комплекс хистокомпатибилности) 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321300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особност разликовања страног од сопственог је главна одлика имуног систем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МНС протеине/ 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HLA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антиген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- кодира велики генски комплекс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нгл. Major Histocompatibility Complex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)  на 6. хромоз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лиморфни гени са  великим бројем ал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Гени </a:t>
            </a:r>
            <a:r>
              <a:rPr b="1" lang="sr-Latn-CS" sz="4200" spc="-1" strike="noStrike">
                <a:solidFill>
                  <a:srgbClr val="000000"/>
                </a:solidFill>
                <a:latin typeface="Times New Roman"/>
              </a:rPr>
              <a:t>MHC/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 система подељени у две класе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ЛАС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класе проте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ирај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HC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теине који везују антигене и налазе се на мембранама свих ћелија; 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њих препознају цитотоксични Т лимфоц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ЛАС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ласе проте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ирај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HC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теине који везују антигене и налазе се на одређеним ћелијским мембранама: В лимфоцита, макрофага, сперматозоида, епителних ћелија: 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њих препознају помоћнички Т лимфоц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Times New Roman"/>
              </a:rPr>
              <a:t>Гени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sr-CS" sz="4600" spc="-1" strike="noStrike">
                <a:solidFill>
                  <a:srgbClr val="000000"/>
                </a:solidFill>
                <a:latin typeface="Times New Roman"/>
              </a:rPr>
              <a:t> систем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што се сви гени овог система (свака особа има 12 гена који кодирају МНС протеине) налазе на једном хромозому (бр. 6) они се заједно наслеђују (као целина) и представљају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хаплоти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 значи да се наслеђује један очев 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дан мајчин хаплотип у целини (једн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јчина и једна очева комбинац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роватноћа да брат и сестра имају ист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антигене/МНС протеине је  25% - трансплантација орг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Times New Roman"/>
              </a:rPr>
              <a:t>АНТИТЕЛ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нтигени изазивају специфичан имуни одговор који је испољен у стварању анти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уноглобулинск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) молекули који се стварају у великом броју при чему сваки има специфично антиген-везујуће 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дукују их В лимфоц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в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молекули створени од једног В лимфоцита имају исту антигенску специфичност (исто место за везивање антигенске детерминант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Структура имуноглобулина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99"/>
                </a:solidFill>
                <a:latin typeface="Times New Roman"/>
              </a:rPr>
              <a:t>2 идентична лак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cc0099"/>
                </a:solidFill>
                <a:latin typeface="Times New Roman"/>
              </a:rPr>
              <a:t>2 идентична тешка лан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Варијабилне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) секве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терминус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константне (С) секве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на С терминус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bf5f9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33cc33"/>
                </a:solidFill>
                <a:latin typeface="Times New Roman"/>
              </a:rPr>
              <a:t>Ј и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1" lang="sr-CS" sz="2400" spc="-1" strike="noStrike">
                <a:solidFill>
                  <a:srgbClr val="33cc33"/>
                </a:solidFill>
                <a:latin typeface="Times New Roman"/>
              </a:rPr>
              <a:t> реги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Антиген-везујуће место</a:t>
            </a:r>
            <a:r>
              <a:rPr b="0" lang="sr-CS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–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регионима лаког и тешког лан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11" descr="Ig str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4608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3"/>
          <p:cNvSpPr/>
          <p:nvPr/>
        </p:nvSpPr>
        <p:spPr>
          <a:xfrm>
            <a:off x="4503240" y="14842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Антиген-везују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7157520" y="14842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Антиген-везују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6014160" y="19890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Згло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4357440" y="3573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Лаки лан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7871400" y="350028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Ј рег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9"/>
          <p:cNvSpPr/>
          <p:nvPr/>
        </p:nvSpPr>
        <p:spPr>
          <a:xfrm>
            <a:off x="7667640" y="2781360"/>
            <a:ext cx="43344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8016120" y="3141720"/>
            <a:ext cx="112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V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 реги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1"/>
          <p:cNvSpPr/>
          <p:nvPr/>
        </p:nvSpPr>
        <p:spPr>
          <a:xfrm>
            <a:off x="7164360" y="357336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2"/>
          <p:cNvSpPr/>
          <p:nvPr/>
        </p:nvSpPr>
        <p:spPr>
          <a:xfrm>
            <a:off x="7814160" y="407664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С реги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3"/>
          <p:cNvSpPr/>
          <p:nvPr/>
        </p:nvSpPr>
        <p:spPr>
          <a:xfrm flipV="1">
            <a:off x="6804000" y="4365720"/>
            <a:ext cx="1081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4"/>
          <p:cNvSpPr/>
          <p:nvPr/>
        </p:nvSpPr>
        <p:spPr>
          <a:xfrm>
            <a:off x="716436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4503600" y="45813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Тешки лан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imuno9"/>
          <p:cNvPicPr/>
          <p:nvPr/>
        </p:nvPicPr>
        <p:blipFill>
          <a:blip r:embed="rId1"/>
          <a:stretch/>
        </p:blipFill>
        <p:spPr>
          <a:xfrm>
            <a:off x="2819520" y="380880"/>
            <a:ext cx="3498840" cy="617220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3"/>
          <p:cNvSpPr/>
          <p:nvPr/>
        </p:nvSpPr>
        <p:spPr>
          <a:xfrm>
            <a:off x="5410080" y="1219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"/>
          <p:cNvSpPr/>
          <p:nvPr/>
        </p:nvSpPr>
        <p:spPr>
          <a:xfrm>
            <a:off x="5334120" y="1219320"/>
            <a:ext cx="1522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"/>
          <p:cNvSpPr/>
          <p:nvPr/>
        </p:nvSpPr>
        <p:spPr>
          <a:xfrm flipH="1">
            <a:off x="3733920" y="1523880"/>
            <a:ext cx="761760" cy="4572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29718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antigenska determin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7"/>
          <p:cNvSpPr/>
          <p:nvPr/>
        </p:nvSpPr>
        <p:spPr>
          <a:xfrm flipH="1">
            <a:off x="3886200" y="2209680"/>
            <a:ext cx="838080" cy="13716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 flipH="1" flipV="1">
            <a:off x="3809520" y="3962520"/>
            <a:ext cx="762120" cy="17524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200400" y="3581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Arial"/>
              </a:rPr>
              <a:t>zglobni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Класе имуноглобулина/антитела</a:t>
            </a:r>
            <a:r>
              <a:rPr b="1" lang="sr-CS" sz="4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M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G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A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D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ласификација се 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ши на основу С региона њихових тешких лана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99"/>
                </a:solidFill>
                <a:latin typeface="Times New Roman"/>
              </a:rPr>
              <a:t>Главна класа 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IgG-</a:t>
            </a:r>
            <a:r>
              <a:rPr b="1" lang="sr-CS" sz="2400" spc="-1" strike="noStrike">
                <a:solidFill>
                  <a:srgbClr val="cc0099"/>
                </a:solidFill>
                <a:latin typeface="Times New Roman"/>
              </a:rPr>
              <a:t> ствара се током секундарног имуног одговора.То је једина класа која може да прође кроз плаценту, лучи се и у мајчино млеко па обезбеђуј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cc0099"/>
                </a:solidFill>
                <a:latin typeface="Times New Roman"/>
              </a:rPr>
              <a:t> заштиту новорођенчета од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Иму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ки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 систем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сложен систем одбране организма од страних матер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Антиген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су стране материје које побуђују имуни одгов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Главн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ог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oдбр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и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и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м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ају лимфоци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 Т  </a:t>
            </a:r>
            <a:r>
              <a:rPr b="1" lang="sr-CS" sz="2800" spc="-1" strike="noStrike">
                <a:solidFill>
                  <a:srgbClr val="cc0099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 B </a:t>
            </a:r>
            <a:r>
              <a:rPr b="1" lang="sr-CS" sz="2800" spc="-1" strike="noStrike">
                <a:solidFill>
                  <a:srgbClr val="cc0099"/>
                </a:solidFill>
                <a:latin typeface="Times New Roman"/>
              </a:rPr>
              <a:t>лимфоцит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5040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аки ланци имуноглобул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 класе:</a:t>
            </a:r>
            <a:r>
              <a:rPr b="1" lang="sr-CS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l-GR" sz="2800" spc="-1" strike="noStrike">
                <a:solidFill>
                  <a:srgbClr val="0000ff"/>
                </a:solidFill>
                <a:latin typeface="Constantia"/>
                <a:ea typeface="Tahoma"/>
              </a:rPr>
              <a:t>λ</a:t>
            </a:r>
            <a:r>
              <a:rPr b="1" lang="sr-CS" sz="2800" spc="-1" strike="noStrike">
                <a:solidFill>
                  <a:srgbClr val="0000ff"/>
                </a:solidFill>
                <a:latin typeface="Constantia"/>
                <a:ea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и </a:t>
            </a:r>
            <a:r>
              <a:rPr b="1" lang="el-GR" sz="2800" spc="-1" strike="noStrike">
                <a:solidFill>
                  <a:srgbClr val="0000ff"/>
                </a:solidFill>
                <a:latin typeface="Constantia"/>
                <a:ea typeface="Tahoma"/>
              </a:rPr>
              <a:t>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Arial"/>
                <a:ea typeface="Tahoma"/>
              </a:rPr>
              <a:t>Једно антитело увек има об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ahoma"/>
              </a:rPr>
              <a:t> 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  <a:ea typeface="Tahoma"/>
              </a:rPr>
              <a:t>лака ланца истог ти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шки ланци имуноглобул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7 врста: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2800" spc="-1" strike="noStrike">
                <a:solidFill>
                  <a:srgbClr val="cc0099"/>
                </a:solidFill>
                <a:latin typeface="Constantia"/>
                <a:ea typeface="Tahoma"/>
              </a:rPr>
              <a:t>α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, </a:t>
            </a:r>
            <a:r>
              <a:rPr b="1" lang="el-GR" sz="2800" spc="-1" strike="noStrike">
                <a:solidFill>
                  <a:srgbClr val="cc0099"/>
                </a:solidFill>
                <a:latin typeface="Constantia"/>
                <a:ea typeface="Tahoma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Constantia"/>
                <a:ea typeface="Tahoma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2А, </a:t>
            </a:r>
            <a:r>
              <a:rPr b="0" lang="el-GR" sz="2800" spc="-1" strike="noStrike">
                <a:solidFill>
                  <a:srgbClr val="000000"/>
                </a:solidFill>
                <a:latin typeface="Constantia"/>
                <a:ea typeface="Tahoma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2В, </a:t>
            </a:r>
            <a:r>
              <a:rPr b="0" lang="el-GR" sz="2800" spc="-1" strike="noStrike">
                <a:solidFill>
                  <a:srgbClr val="000000"/>
                </a:solidFill>
                <a:latin typeface="Constantia"/>
                <a:ea typeface="Tahoma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3),</a:t>
            </a:r>
            <a:r>
              <a:rPr b="1" lang="sr-CS" sz="2800" spc="-1" strike="noStrike">
                <a:solidFill>
                  <a:srgbClr val="cc0099"/>
                </a:solidFill>
                <a:latin typeface="Constantia"/>
                <a:ea typeface="Tahoma"/>
              </a:rPr>
              <a:t> </a:t>
            </a:r>
            <a:r>
              <a:rPr b="1" lang="el-GR" sz="2800" spc="-1" strike="noStrike">
                <a:solidFill>
                  <a:srgbClr val="cc0099"/>
                </a:solidFill>
                <a:latin typeface="Constantia"/>
                <a:ea typeface="Tahoma"/>
              </a:rPr>
              <a:t>δ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, </a:t>
            </a:r>
            <a:r>
              <a:rPr b="1" lang="el-GR" sz="2800" spc="-1" strike="noStrike">
                <a:solidFill>
                  <a:srgbClr val="cc0099"/>
                </a:solidFill>
                <a:latin typeface="Constantia"/>
                <a:ea typeface="Tahoma"/>
              </a:rPr>
              <a:t>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Примарни и секундарни имуни одговор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 контакту са антигеном већ после неколико дана јавља се имуни одговор, расте брзо а затим постепено опад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имарни имуни одгово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ко се организам после извесног времена поново буде у контакту са истим антигеном долази до наглог имуног одговора, који је бржи и јачи него примар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секундарни имуни одгово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Arial"/>
              </a:rPr>
              <a:t>Секундарни имуни одговор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122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еномен се објашњава тиме да поред наивних ћелија (нису биле у контакту са антигеном) и ефекторских постоје још и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меморијск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ћел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моријске ћелије настају диференцирањем наивних ћелија после сусрета са антигеном.Један део се диференцира у ефекторске а један у меморијс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моријске ћелије живе јако дуго, чак и цео животни век организ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оновном сусрету са антигеном меморијске ћелије се брже активирају и ефикасније претварају у ефекторс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5" descr="mc10001"/>
          <p:cNvPicPr/>
          <p:nvPr/>
        </p:nvPicPr>
        <p:blipFill>
          <a:blip r:embed="rId1"/>
          <a:stretch/>
        </p:blipFill>
        <p:spPr>
          <a:xfrm>
            <a:off x="5219640" y="1341360"/>
            <a:ext cx="392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Гени за имуноглобулине</a:t>
            </a:r>
            <a:r>
              <a:rPr b="0" lang="sr-CS" sz="5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хромо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</a:rPr>
              <a:t>зому бр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</a:rPr>
              <a:t> 14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налази се група од 10-так гена за C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гион и бројни гени з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рег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хромозoму бр. 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 гени који кодирај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гион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лаког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анца, као и 100 генa з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гион лаког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хромозoму бр. 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ни з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гион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анц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Гени који се налазе на различитим хромозомима а детерминишу исто својство представљају </a:t>
            </a:r>
            <a:r>
              <a:rPr b="1" i="1" lang="sr-CS" sz="4200" spc="-1" strike="noStrike">
                <a:solidFill>
                  <a:srgbClr val="0000ff"/>
                </a:solidFill>
                <a:latin typeface="Times New Roman"/>
              </a:rPr>
              <a:t>фамилије гена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43588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У току сазревања В лимфоцит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 који производе имуноглобулине долази до </a:t>
            </a:r>
            <a:r>
              <a:rPr b="0" lang="sr-CS" sz="4200" spc="-1" strike="noStrike">
                <a:solidFill>
                  <a:srgbClr val="0000ff"/>
                </a:solidFill>
                <a:latin typeface="Times New Roman"/>
              </a:rPr>
              <a:t>рекомбинације ДНК</a:t>
            </a: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  и спајања гена за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, Ј,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и С регионе</a:t>
            </a:r>
            <a:br>
              <a:rPr sz="3800"/>
            </a:b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laki lanac copy"/>
          <p:cNvPicPr/>
          <p:nvPr/>
        </p:nvPicPr>
        <p:blipFill>
          <a:blip r:embed="rId1"/>
          <a:stretch/>
        </p:blipFill>
        <p:spPr>
          <a:xfrm>
            <a:off x="971640" y="476280"/>
            <a:ext cx="7200720" cy="599436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973800" y="5373720"/>
            <a:ext cx="272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Рекомбинација ген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сегманата који кодир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хумани к лаки ланац </a:t>
            </a:r>
            <a:r>
              <a:rPr b="1" lang="en-US" sz="1800" spc="-1" strike="noStrike">
                <a:solidFill>
                  <a:srgbClr val="cc00ff"/>
                </a:solidFill>
                <a:latin typeface="Times New Roman"/>
              </a:rPr>
              <a:t>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411560" y="284040"/>
            <a:ext cx="2050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f6fc6"/>
                </a:solidFill>
                <a:latin typeface="Times New Roman"/>
              </a:rPr>
              <a:t>Сегменти </a:t>
            </a:r>
            <a:r>
              <a:rPr b="1" lang="en-US" sz="1600" spc="-1" strike="noStrike">
                <a:solidFill>
                  <a:srgbClr val="0f6fc6"/>
                </a:solidFill>
                <a:latin typeface="Times New Roman"/>
              </a:rPr>
              <a:t>V </a:t>
            </a:r>
            <a:r>
              <a:rPr b="1" lang="sr-CS" sz="1600" spc="-1" strike="noStrike">
                <a:solidFill>
                  <a:srgbClr val="0f6fc6"/>
                </a:solidFill>
                <a:latin typeface="Times New Roman"/>
              </a:rPr>
              <a:t>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358160" y="260280"/>
            <a:ext cx="157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f6fc6"/>
                </a:solidFill>
                <a:latin typeface="Times New Roman"/>
              </a:rPr>
              <a:t>Гени Ј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6086880" y="260280"/>
            <a:ext cx="1497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f6fc6"/>
                </a:solidFill>
                <a:latin typeface="Times New Roman"/>
              </a:rPr>
              <a:t>Ген С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7310880" y="1341360"/>
            <a:ext cx="92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ДНК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В лимф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4647240" y="20606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транскрип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7240680" y="27082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Pre-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и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7312320" y="3933720"/>
            <a:ext cx="77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Зр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и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6787080" y="5202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проте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4"/>
          <p:cNvSpPr/>
          <p:nvPr/>
        </p:nvSpPr>
        <p:spPr>
          <a:xfrm>
            <a:off x="4861800" y="4508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трансл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teski lanac copy"/>
          <p:cNvPicPr/>
          <p:nvPr/>
        </p:nvPicPr>
        <p:blipFill>
          <a:blip r:embed="rId1"/>
          <a:stretch/>
        </p:blipFill>
        <p:spPr>
          <a:xfrm>
            <a:off x="900000" y="333360"/>
            <a:ext cx="7283520" cy="6524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4573440" y="765000"/>
            <a:ext cx="25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Соматска рекомбин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790880" y="1484280"/>
            <a:ext cx="157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транскрип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4861800" y="393372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трансл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4862520" y="270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обрада 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7238160" y="4437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проте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5850360" y="48420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С рег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4266360" y="49150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V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 рег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7381080" y="981000"/>
            <a:ext cx="83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ДНК 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 лимф</a:t>
            </a:r>
            <a:r>
              <a:rPr b="1" lang="sr-CS" sz="1400" spc="-1" strike="noStrike">
                <a:solidFill>
                  <a:srgbClr val="0f6fc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7456320" y="19890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Pre-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и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903600" y="5942160"/>
            <a:ext cx="28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Соматска рекомбин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генских сегмената кој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кодирају тешки ланац </a:t>
            </a:r>
            <a:r>
              <a:rPr b="1" lang="en-US" sz="1800" spc="-1" strike="noStrike">
                <a:solidFill>
                  <a:srgbClr val="cc00ff"/>
                </a:solidFill>
                <a:latin typeface="Times New Roman"/>
              </a:rPr>
              <a:t>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Мехaнизми нaстaјaњa рaзноликости</a:t>
            </a: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оришћењем р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личитих V-D-J комбин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иј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личитим лимфоцитим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грешк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у V-D-J спојевим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се мењ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редослед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уклеотид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ecec0c"/>
                </a:solidFill>
                <a:latin typeface="Times New Roman"/>
              </a:rPr>
              <a:t>Имуногенетика крвних груп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5040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3640" y="404280"/>
            <a:ext cx="845964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sr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Т лимфоци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71720" indent="-17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моћу рецептора на површини мембране препознају антиге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огу би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-17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цитотоксичн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убијају инфициране ћелије)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-17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per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”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омоћничк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Т лимфоцити  (помажу другим ћелијама: Б лимфоцитима, макрофагама, цитотоксичним лимфоцити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омоћнички 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имфоцит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уче велики број сигналних протеина –</a:t>
            </a:r>
            <a:r>
              <a:rPr b="0" lang="sr-CS" sz="2800" spc="-1" strike="noStrike">
                <a:solidFill>
                  <a:srgbClr val="cc0099"/>
                </a:solidFill>
                <a:latin typeface="Times New Roman"/>
              </a:rPr>
              <a:t>цитокини и костимулаторск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cc0099"/>
                </a:solidFill>
                <a:latin typeface="Times New Roman"/>
              </a:rPr>
              <a:t>протеин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ко којих утичу на ћелије  које треба да активирај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Цитотоксични Т лимфоцит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убијају ћелије помоћу протеина које луче или исказују на својој површ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-900360" y="4869000"/>
            <a:ext cx="88930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99ff33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4000" y="7045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Имуногенетика крвних груп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9200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ксперимент је изве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рл Ланштајнер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9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99"/>
                </a:solidFill>
                <a:latin typeface="Times New Roman"/>
              </a:rPr>
              <a:t>ABO </a:t>
            </a:r>
            <a:r>
              <a:rPr b="1" lang="sr-CS" sz="2800" spc="-1" strike="noStrike">
                <a:solidFill>
                  <a:srgbClr val="cc0099"/>
                </a:solidFill>
                <a:latin typeface="Times New Roman"/>
              </a:rPr>
              <a:t>систем</a:t>
            </a:r>
            <a:r>
              <a:rPr b="1" lang="sr-Latn-CS" sz="2800" spc="-1" strike="noStrike">
                <a:solidFill>
                  <a:srgbClr val="cc0099"/>
                </a:solidFill>
                <a:latin typeface="Times New Roman"/>
              </a:rPr>
              <a:t> (A, B, AB, 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терминише ген на хромозому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кој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а три ал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Мултипни алелизам</a:t>
            </a:r>
            <a:r>
              <a:rPr b="0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824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Један ген заступљен са више од два различита алелна облик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ff"/>
                </a:solidFill>
                <a:latin typeface="Times New Roman"/>
              </a:rPr>
              <a:t>Кодоминантан одно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Ген за АБО систем крвних група код људ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&gt; 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ff"/>
                </a:solidFill>
                <a:latin typeface="Times New Roman"/>
              </a:rPr>
              <a:t>Хијерархијски однос доминант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ен за боју длаке код кунића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(4 различита алел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9152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Кодоминантни однос</a:t>
            </a:r>
            <a:br>
              <a:rPr sz="4200"/>
            </a:b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3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33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1" lang="en-GB" sz="33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) &gt; I</a:t>
            </a:r>
            <a:r>
              <a:rPr b="1" lang="en-GB" sz="33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3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16000" y="1574640"/>
          <a:ext cx="8686800" cy="5054760"/>
        </p:xfrm>
        <a:graphic>
          <a:graphicData uri="http://schemas.openxmlformats.org/drawingml/2006/table">
            <a:tbl>
              <a:tblPr/>
              <a:tblGrid>
                <a:gridCol w="1768320"/>
                <a:gridCol w="2803680"/>
                <a:gridCol w="2041560"/>
                <a:gridCol w="207324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но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о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A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B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sr-Latn-C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AB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A, 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O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A, aнтитело 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Хијерархијски однос доминантност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 за боју длаке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(4 различита алела)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79280" y="1600200"/>
          <a:ext cx="8507520" cy="4525920"/>
        </p:xfrm>
        <a:graphic>
          <a:graphicData uri="http://schemas.openxmlformats.org/drawingml/2006/table">
            <a:tbl>
              <a:tblPr/>
              <a:tblGrid>
                <a:gridCol w="439272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енотип 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енотип (10)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отпунa о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еност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зн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;  C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a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тло-сива бој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химaлaјскa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aлbино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600" spc="-1" strike="noStrike">
                <a:solidFill>
                  <a:srgbClr val="000000"/>
                </a:solidFill>
                <a:latin typeface="Times New Roman"/>
              </a:rPr>
              <a:t>Rh </a:t>
            </a:r>
            <a:r>
              <a:rPr b="1" lang="sr-CS" sz="56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endParaRPr b="0" lang="en-US" sz="5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Детерминише ген на хромозому 1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(D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sr-Latn-CS" sz="3000" spc="-1" strike="noStrike">
                <a:solidFill>
                  <a:srgbClr val="0000ff"/>
                </a:solidFill>
                <a:latin typeface="Times New Roman"/>
              </a:rPr>
              <a:t>Rh</a:t>
            </a:r>
            <a:r>
              <a:rPr b="1" lang="en-US" sz="30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  DD, Dd;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Rh</a:t>
            </a:r>
            <a:r>
              <a:rPr b="1" lang="en-US" sz="30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dd</a:t>
            </a:r>
            <a:r>
              <a:rPr b="0" lang="sr-Latn-C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alibri"/>
              </a:rPr>
              <a:t>Планирање породиц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  x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1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, Dd, dd,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 x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1 Dd, Dd, Dd,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 x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1 DD, Dd, Dd,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544" name="Picture 3" descr="Rh"/>
          <p:cNvPicPr/>
          <p:nvPr/>
        </p:nvPicPr>
        <p:blipFill>
          <a:blip r:embed="rId1"/>
          <a:stretch/>
        </p:blipFill>
        <p:spPr>
          <a:xfrm>
            <a:off x="-135000" y="217440"/>
            <a:ext cx="927900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s </a:t>
            </a: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ени који детерминишу ова два система налазе се на хромозому бр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(кодоминантни алели М и 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S-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SS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s-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-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ИЗРАДА ПРОБЛЕМСКИХ ЗАДА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В лимфоцити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 имуном одговору су стимулисани да стварају антит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кон активације антигенима пролиферишу и диференцирају се у ефекторске ћелије (плазма ћелиј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imuno3"/>
          <p:cNvPicPr/>
          <p:nvPr/>
        </p:nvPicPr>
        <p:blipFill>
          <a:blip r:embed="rId1"/>
          <a:stretch/>
        </p:blipFill>
        <p:spPr>
          <a:xfrm>
            <a:off x="1547640" y="981000"/>
            <a:ext cx="5905800" cy="48243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0"/>
          <p:cNvSpPr/>
          <p:nvPr/>
        </p:nvSpPr>
        <p:spPr>
          <a:xfrm>
            <a:off x="187200" y="2133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Прекур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Т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-27720" y="3357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Хематопоет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матична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731680" y="4149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лимфоц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костне ср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3808080" y="335772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лимф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тим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5655600" y="22050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Т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5798160" y="4869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В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4042800" y="170028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т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32000" y="620640"/>
            <a:ext cx="41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Хематопоетско ткиво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и тимус 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примарни лимфни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5273280" y="105264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Перифер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лимфни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5547600" y="357336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cc00ff"/>
                </a:solidFill>
                <a:latin typeface="Tahoma"/>
              </a:rPr>
              <a:t>анти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6854760" y="256536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ЋЕЛИЈ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ИМУНИ ОД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1"/>
          <p:cNvSpPr/>
          <p:nvPr/>
        </p:nvSpPr>
        <p:spPr>
          <a:xfrm>
            <a:off x="7092720" y="429264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ХУМОРАЛ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ИМУНИ ОД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New Roman"/>
              </a:rPr>
              <a:t>Зрели Т и В лимфоцити прелазе у крв, а из крви у секундарне лимфне органе</a:t>
            </a:r>
            <a:endParaRPr b="0" lang="en-US" sz="29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268000" y="1600200"/>
            <a:ext cx="3527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6" descr="imuno5"/>
          <p:cNvPicPr/>
          <p:nvPr/>
        </p:nvPicPr>
        <p:blipFill>
          <a:blip r:embed="rId1"/>
          <a:stretch/>
        </p:blipFill>
        <p:spPr>
          <a:xfrm>
            <a:off x="2195640" y="1341360"/>
            <a:ext cx="4313160" cy="55166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7"/>
          <p:cNvSpPr/>
          <p:nvPr/>
        </p:nvSpPr>
        <p:spPr>
          <a:xfrm>
            <a:off x="1751400" y="19162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адено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4983120" y="206064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тонз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2107080" y="29242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т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5898960" y="27957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лимфни суд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6111000" y="337176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Лимфни чво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6127920" y="39481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сле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699920" y="3860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Паје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118880" y="46530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Слепо ц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1187280" y="5373720"/>
            <a:ext cx="15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Костна ср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000000"/>
                </a:solidFill>
                <a:latin typeface="Arial"/>
              </a:rPr>
              <a:t>Т и </a:t>
            </a:r>
            <a:r>
              <a:rPr b="0" lang="sr-Latn-CS" sz="4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4600" spc="-1" strike="noStrike">
                <a:solidFill>
                  <a:srgbClr val="000000"/>
                </a:solidFill>
                <a:latin typeface="Arial"/>
              </a:rPr>
              <a:t> лимфоцити могу се разликовати морфолошки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2636640"/>
            <a:ext cx="721044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кују  се тек после активације антигени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ад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лимфоцити пролиферишу и диференцирају се у ефекторске ћелије-плазма ћел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лазма ћелије имају јако развијен гранулирани Е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Times New Roman"/>
              </a:rPr>
              <a:t>Имунски систем обухвата 2 механизма одбране против антигена: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3348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Times New Roman"/>
              </a:rPr>
              <a:t>ХУМОРАЛНА ОДБР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Times New Roman"/>
              </a:rPr>
              <a:t>ЋЕЛИЈСКА ОДБР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7" descr="imuno6"/>
          <p:cNvPicPr/>
          <p:nvPr/>
        </p:nvPicPr>
        <p:blipFill>
          <a:blip r:embed="rId1"/>
          <a:stretch/>
        </p:blipFill>
        <p:spPr>
          <a:xfrm>
            <a:off x="3780000" y="1484280"/>
            <a:ext cx="4537080" cy="53737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8"/>
          <p:cNvSpPr/>
          <p:nvPr/>
        </p:nvSpPr>
        <p:spPr>
          <a:xfrm>
            <a:off x="6123600" y="162864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ат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669720" y="306864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Инфици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0"/>
          <p:cNvSpPr/>
          <p:nvPr/>
        </p:nvSpPr>
        <p:spPr>
          <a:xfrm flipH="1">
            <a:off x="5148360" y="4076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4911840" y="330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5076720" y="3284640"/>
            <a:ext cx="1752480" cy="761760"/>
            <a:chOff x="5076720" y="3284640"/>
            <a:chExt cx="1752480" cy="761760"/>
          </a:xfrm>
        </p:grpSpPr>
        <p:sp>
          <p:nvSpPr>
            <p:cNvPr id="421" name="Line 14"/>
            <p:cNvSpPr/>
            <p:nvPr/>
          </p:nvSpPr>
          <p:spPr>
            <a:xfrm flipH="1">
              <a:off x="5076720" y="3284640"/>
              <a:ext cx="914400" cy="76176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5991120" y="3284640"/>
              <a:ext cx="838080" cy="6854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16"/>
          <p:cNvSpPr/>
          <p:nvPr/>
        </p:nvSpPr>
        <p:spPr>
          <a:xfrm>
            <a:off x="3735360" y="393372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Хуморал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од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6925680" y="393372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Ћелиј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од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3737880" y="46688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В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7061760" y="466884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Т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5385960" y="49356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ahoma"/>
              </a:rPr>
              <a:t>антит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6008400" y="6553080"/>
            <a:ext cx="24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ahoma"/>
              </a:rPr>
              <a:t>Смрт инфициране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2"/>
          <p:cNvSpPr/>
          <p:nvPr/>
        </p:nvSpPr>
        <p:spPr>
          <a:xfrm>
            <a:off x="5703840" y="150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3"/>
          <p:cNvSpPr/>
          <p:nvPr/>
        </p:nvSpPr>
        <p:spPr>
          <a:xfrm>
            <a:off x="5580000" y="1628640"/>
            <a:ext cx="152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4"/>
          <p:cNvSpPr/>
          <p:nvPr/>
        </p:nvSpPr>
        <p:spPr>
          <a:xfrm>
            <a:off x="5416560" y="157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25"/>
          <p:cNvSpPr/>
          <p:nvPr/>
        </p:nvSpPr>
        <p:spPr>
          <a:xfrm>
            <a:off x="5796000" y="184464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5416560" y="164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7"/>
          <p:cNvSpPr/>
          <p:nvPr/>
        </p:nvSpPr>
        <p:spPr>
          <a:xfrm>
            <a:off x="5508720" y="1916280"/>
            <a:ext cx="152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9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хуморалној одбр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лимфоцитима (плазма ћелијама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синтетишу специфична </a:t>
            </a:r>
            <a:r>
              <a:rPr b="1" i="1" lang="sr-Latn-CS" sz="2800" spc="-1" strike="noStrike">
                <a:solidFill>
                  <a:srgbClr val="0000ff"/>
                </a:solidFill>
                <a:latin typeface="Times New Roman"/>
              </a:rPr>
              <a:t>антит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која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се везују за антигене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и инактивишу их или их разарају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B limfociti"/>
          <p:cNvPicPr/>
          <p:nvPr/>
        </p:nvPicPr>
        <p:blipFill>
          <a:blip r:embed="rId1"/>
          <a:stretch/>
        </p:blipFill>
        <p:spPr>
          <a:xfrm>
            <a:off x="4572000" y="333360"/>
            <a:ext cx="4278240" cy="62643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5"/>
          <p:cNvSpPr/>
          <p:nvPr/>
        </p:nvSpPr>
        <p:spPr>
          <a:xfrm>
            <a:off x="6858000" y="4492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прекурс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4503600" y="981000"/>
            <a:ext cx="135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Различ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неактивира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4503960" y="230184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нтиг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854760" y="2276640"/>
            <a:ext cx="229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езивање антигена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 лимф. са одговарајућ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нтигенским рецеп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6642720" y="33559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ктивација В лимфоц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7504560" y="378792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пролифер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7382880" y="4869000"/>
            <a:ext cx="15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диференциј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7887600" y="609300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анти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4502520" y="5229360"/>
            <a:ext cx="110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ефекторс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пла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4644720" y="422100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Кл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2-01-26T14:25:56Z</dcterms:modified>
  <cp:revision>145</cp:revision>
  <dc:subject/>
  <dc:title>MUTACIJE GENA</dc:title>
</cp:coreProperties>
</file>